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43.wmf" ContentType="image/x-wmf"/>
  <Override PartName="/ppt/media/image10.gif" ContentType="image/gif"/>
  <Override PartName="/ppt/media/image38.wmf" ContentType="image/x-wmf"/>
  <Override PartName="/ppt/media/image8.wmf" ContentType="image/x-wmf"/>
  <Override PartName="/ppt/media/image85.wmf" ContentType="image/x-wmf"/>
  <Override PartName="/ppt/media/image11.wmf" ContentType="image/x-wmf"/>
  <Override PartName="/ppt/media/image108.wmf" ContentType="image/x-wmf"/>
  <Override PartName="/ppt/media/image40.wmf" ContentType="image/x-wmf"/>
  <Override PartName="/ppt/media/image6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89.wmf" ContentType="image/x-wmf"/>
  <Override PartName="/ppt/media/image15.wmf" ContentType="image/x-wmf"/>
  <Override PartName="/ppt/media/image3.wmf" ContentType="image/x-wmf"/>
  <Override PartName="/ppt/media/image80.wmf" ContentType="image/x-wmf"/>
  <Override PartName="/ppt/media/image14.wmf" ContentType="image/x-wmf"/>
  <Override PartName="/ppt/media/image33.wmf" ContentType="image/x-wmf"/>
  <Override PartName="/ppt/media/image26.wmf" ContentType="image/x-wmf"/>
  <Override PartName="/ppt/media/image91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88.wmf" ContentType="image/x-wmf"/>
  <Override PartName="/ppt/media/image111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87.wmf" ContentType="image/x-wmf"/>
  <Override PartName="/ppt/media/image107.wmf" ContentType="image/x-wmf"/>
  <Override PartName="/ppt/media/image63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79.wmf" ContentType="image/x-wmf"/>
  <Override PartName="/ppt/media/image101.wmf" ContentType="image/x-wmf"/>
  <Override PartName="/ppt/media/image78.wmf" ContentType="image/x-wmf"/>
  <Override PartName="/ppt/media/image100.wmf" ContentType="image/x-wmf"/>
  <Override PartName="/ppt/media/image94.wmf" ContentType="image/x-wmf"/>
  <Override PartName="/ppt/media/image29.wmf" ContentType="image/x-wmf"/>
  <Override PartName="/ppt/media/image93.wmf" ContentType="image/x-wmf"/>
  <Override PartName="/ppt/media/image28.wmf" ContentType="image/x-wmf"/>
  <Override PartName="/ppt/media/image92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media/image16.wmf" ContentType="image/x-wmf"/>
  <Override PartName="/ppt/media/image81.wmf" ContentType="image/x-wmf"/>
  <Override PartName="/ppt/media/image25.wmf" ContentType="image/x-wmf"/>
  <Override PartName="/ppt/media/image90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9.bin" ContentType="application/vnd.openxmlformats-officedocument.oleObject"/>
  <Override PartName="/ppt/embeddings/oleObject3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4FD3-E8B4-40DE-9F39-F1454CBCD2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4128-43B1-4B7F-A7BB-BB3B12466C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52E-0AC6-4AB7-9E78-095C48F4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872-FCEB-4FCC-9DA9-C2A91B1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82F-0A36-4971-8ABD-6C55BD65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FFC-4904-4529-8205-30134212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7BB-4435-49E7-817F-25692689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D0F-1F16-477D-AFD9-98F1160B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C4A-F739-4244-AD74-A34E17DD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A40-C48A-4570-928C-1C53668A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1C7-A383-4123-BFA7-C0A67BCF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17D-A8B4-4035-AE5F-946EF40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83D-6DE7-4A11-99F8-55F7AE44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78A-1020-4346-8E45-C7CF8510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2D9F-69DB-4E3C-B9B8-14E3CB3A34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53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54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55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56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57.wmf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4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5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6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73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4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75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76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77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8.wmf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8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8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8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86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8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88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94.wmf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9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0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01.wmf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2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91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0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04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05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06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07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108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09.wmf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110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111.wmf"/><Relationship Id="rId3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9.wmf"/><Relationship Id="rId10" Type="http://schemas.openxmlformats.org/officeDocument/2006/relationships/image" Target="../media/image10.gi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6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7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2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1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6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0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5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1.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微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2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2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3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 txBox="1"/>
          <p:nvPr/>
        </p:nvSpPr>
        <p:spPr>
          <a:xfrm>
            <a:off x="353520" y="4797000"/>
            <a:ext cx="8543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340" name="Picture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810000" y="1989000"/>
            <a:ext cx="6555240" cy="866880"/>
            <a:chOff x="810000" y="1989000"/>
            <a:chExt cx="6555240" cy="866880"/>
          </a:xfrm>
        </p:grpSpPr>
        <p:sp>
          <p:nvSpPr>
            <p:cNvPr id="351" name="Rectangle 27"/>
            <p:cNvSpPr/>
            <p:nvPr/>
          </p:nvSpPr>
          <p:spPr>
            <a:xfrm>
              <a:off x="810000" y="2133360"/>
              <a:ext cx="4599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为                           所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2" name="Object 16"/>
            <p:cNvGraphicFramePr/>
            <p:nvPr/>
          </p:nvGraphicFramePr>
          <p:xfrm>
            <a:off x="2556000" y="2205000"/>
            <a:ext cx="1850400" cy="490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3" name="Object 1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56000" y="2205000"/>
                      <a:ext cx="185040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Object 17"/>
            <p:cNvGraphicFramePr/>
            <p:nvPr/>
          </p:nvGraphicFramePr>
          <p:xfrm>
            <a:off x="5508360" y="1989000"/>
            <a:ext cx="1856880" cy="866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Object 17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508360" y="1989000"/>
                      <a:ext cx="1856880" cy="8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6" name="Group 18"/>
          <p:cNvGrpSpPr/>
          <p:nvPr/>
        </p:nvGrpSpPr>
        <p:grpSpPr>
          <a:xfrm>
            <a:off x="1017000" y="3465360"/>
            <a:ext cx="6079320" cy="782640"/>
            <a:chOff x="1017000" y="3465360"/>
            <a:chExt cx="6079320" cy="782640"/>
          </a:xfrm>
        </p:grpSpPr>
        <p:sp>
          <p:nvSpPr>
            <p:cNvPr id="357" name="Rectangle 31"/>
            <p:cNvSpPr/>
            <p:nvPr/>
          </p:nvSpPr>
          <p:spPr>
            <a:xfrm>
              <a:off x="1017000" y="3502080"/>
              <a:ext cx="60793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般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有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为任意常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8" name="Object 20"/>
            <p:cNvGraphicFramePr/>
            <p:nvPr/>
          </p:nvGraphicFramePr>
          <p:xfrm>
            <a:off x="2268360" y="3465360"/>
            <a:ext cx="2737080" cy="782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59" name="Object 2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68360" y="3465360"/>
                      <a:ext cx="2737080" cy="7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0" name="Group 21"/>
          <p:cNvGrpSpPr/>
          <p:nvPr/>
        </p:nvGrpSpPr>
        <p:grpSpPr>
          <a:xfrm>
            <a:off x="1095480" y="4149720"/>
            <a:ext cx="5138640" cy="598320"/>
            <a:chOff x="1095480" y="4149720"/>
            <a:chExt cx="5138640" cy="598320"/>
          </a:xfrm>
        </p:grpSpPr>
        <p:sp>
          <p:nvSpPr>
            <p:cNvPr id="361" name="Rectangle 33"/>
            <p:cNvSpPr/>
            <p:nvPr/>
          </p:nvSpPr>
          <p:spPr>
            <a:xfrm>
              <a:off x="1095480" y="4149720"/>
              <a:ext cx="5138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)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Arial"/>
                </a:rPr>
                <a:t>   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所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2" name="Object 23"/>
            <p:cNvGraphicFramePr/>
            <p:nvPr/>
          </p:nvGraphicFramePr>
          <p:xfrm>
            <a:off x="2266920" y="4221000"/>
            <a:ext cx="3168720" cy="5270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63" name="Object 23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266920" y="4221000"/>
                      <a:ext cx="316872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64" name="Object 24"/>
          <p:cNvGraphicFramePr/>
          <p:nvPr/>
        </p:nvGraphicFramePr>
        <p:xfrm>
          <a:off x="1785960" y="4714920"/>
          <a:ext cx="3073320" cy="868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5" name="Object 2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785960" y="4714920"/>
                    <a:ext cx="30733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25"/>
          <p:cNvGraphicFramePr/>
          <p:nvPr/>
        </p:nvGraphicFramePr>
        <p:xfrm>
          <a:off x="1403280" y="5373720"/>
          <a:ext cx="5583240" cy="847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7" name="Object 2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403280" y="5373720"/>
                    <a:ext cx="55832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25"/>
          <p:cNvSpPr/>
          <p:nvPr/>
        </p:nvSpPr>
        <p:spPr>
          <a:xfrm>
            <a:off x="1713960" y="692280"/>
            <a:ext cx="47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括号中填入适当的函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使等式成立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1143720" y="1268280"/>
            <a:ext cx="6269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d(   )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w t dt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28"/>
          <p:cNvGrpSpPr/>
          <p:nvPr/>
        </p:nvGrpSpPr>
        <p:grpSpPr>
          <a:xfrm>
            <a:off x="1413720" y="2746440"/>
            <a:ext cx="3374280" cy="736560"/>
            <a:chOff x="1413720" y="2746440"/>
            <a:chExt cx="3374280" cy="736560"/>
          </a:xfrm>
        </p:grpSpPr>
        <p:graphicFrame>
          <p:nvGraphicFramePr>
            <p:cNvPr id="371" name="Object 29"/>
            <p:cNvGraphicFramePr/>
            <p:nvPr/>
          </p:nvGraphicFramePr>
          <p:xfrm>
            <a:off x="3000600" y="2746440"/>
            <a:ext cx="1787400" cy="7365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72" name="Object 29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000600" y="2746440"/>
                      <a:ext cx="17874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Rectangle 29"/>
            <p:cNvSpPr/>
            <p:nvPr/>
          </p:nvSpPr>
          <p:spPr>
            <a:xfrm>
              <a:off x="1413720" y="285120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4" name="Object 31"/>
          <p:cNvGraphicFramePr/>
          <p:nvPr/>
        </p:nvGraphicFramePr>
        <p:xfrm>
          <a:off x="5003640" y="4724280"/>
          <a:ext cx="2092320" cy="8748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3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003640" y="4724280"/>
                    <a:ext cx="20923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圆角矩形 4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8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8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9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8" name="Object 2"/>
          <p:cNvGraphicFramePr/>
          <p:nvPr/>
        </p:nvGraphicFramePr>
        <p:xfrm>
          <a:off x="684360" y="692280"/>
          <a:ext cx="1180800" cy="64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692280"/>
                    <a:ext cx="11808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2050920" y="620640"/>
          <a:ext cx="6104160" cy="568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0920" y="620640"/>
                    <a:ext cx="6104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3203640" y="549360"/>
          <a:ext cx="658800" cy="57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3640" y="549360"/>
                    <a:ext cx="6588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5"/>
          <p:cNvGraphicFramePr/>
          <p:nvPr/>
        </p:nvGraphicFramePr>
        <p:xfrm>
          <a:off x="3214800" y="1143000"/>
          <a:ext cx="1573200" cy="110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5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14800" y="1143000"/>
                    <a:ext cx="157320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6"/>
          <p:cNvGraphicFramePr/>
          <p:nvPr/>
        </p:nvGraphicFramePr>
        <p:xfrm>
          <a:off x="2987640" y="2276640"/>
          <a:ext cx="17161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7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87640" y="2276640"/>
                    <a:ext cx="17161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7"/>
          <p:cNvGraphicFramePr/>
          <p:nvPr/>
        </p:nvGraphicFramePr>
        <p:xfrm>
          <a:off x="2771640" y="2708280"/>
          <a:ext cx="2146320" cy="1130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09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71640" y="2708280"/>
                    <a:ext cx="21463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8"/>
          <p:cNvGraphicFramePr/>
          <p:nvPr/>
        </p:nvGraphicFramePr>
        <p:xfrm>
          <a:off x="2916360" y="3933720"/>
          <a:ext cx="2506680" cy="638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11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916360" y="3933720"/>
                    <a:ext cx="2506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9"/>
          <p:cNvGraphicFramePr/>
          <p:nvPr/>
        </p:nvGraphicFramePr>
        <p:xfrm>
          <a:off x="2916360" y="5013360"/>
          <a:ext cx="1726920" cy="706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13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16360" y="5013360"/>
                    <a:ext cx="17269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0"/>
          <p:cNvGraphicFramePr/>
          <p:nvPr/>
        </p:nvGraphicFramePr>
        <p:xfrm>
          <a:off x="3924360" y="549360"/>
          <a:ext cx="780840" cy="576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15" name="Object 1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24360" y="549360"/>
                    <a:ext cx="7808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圆角矩形 4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1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2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3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Object 31"/>
          <p:cNvGraphicFramePr/>
          <p:nvPr/>
        </p:nvGraphicFramePr>
        <p:xfrm>
          <a:off x="539640" y="476280"/>
          <a:ext cx="7777440" cy="1731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39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76280"/>
                    <a:ext cx="77774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32"/>
          <p:cNvGraphicFramePr/>
          <p:nvPr/>
        </p:nvGraphicFramePr>
        <p:xfrm>
          <a:off x="611280" y="1773360"/>
          <a:ext cx="7380360" cy="1150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41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773360"/>
                    <a:ext cx="73803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2124000" y="2349360"/>
          <a:ext cx="4103640" cy="571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2349360"/>
                    <a:ext cx="4103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7"/>
          <p:cNvGraphicFramePr/>
          <p:nvPr/>
        </p:nvGraphicFramePr>
        <p:xfrm>
          <a:off x="1979640" y="3357720"/>
          <a:ext cx="4464000" cy="723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3357720"/>
                    <a:ext cx="44640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8"/>
          <p:cNvGraphicFramePr/>
          <p:nvPr/>
        </p:nvGraphicFramePr>
        <p:xfrm>
          <a:off x="971640" y="2924280"/>
          <a:ext cx="744696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2924280"/>
                    <a:ext cx="7446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9"/>
          <p:cNvGraphicFramePr/>
          <p:nvPr/>
        </p:nvGraphicFramePr>
        <p:xfrm>
          <a:off x="971640" y="4076640"/>
          <a:ext cx="5456160" cy="504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9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076640"/>
                    <a:ext cx="5456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0"/>
          <p:cNvGraphicFramePr/>
          <p:nvPr/>
        </p:nvGraphicFramePr>
        <p:xfrm>
          <a:off x="2050920" y="4653000"/>
          <a:ext cx="5185080" cy="762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1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50920" y="4653000"/>
                    <a:ext cx="5185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1"/>
          <p:cNvGraphicFramePr/>
          <p:nvPr/>
        </p:nvGraphicFramePr>
        <p:xfrm>
          <a:off x="1547640" y="5516640"/>
          <a:ext cx="4680000" cy="695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54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547640" y="5516640"/>
                    <a:ext cx="4680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6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7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2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479" name="Picture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83" name="Object 7"/>
          <p:cNvGraphicFramePr/>
          <p:nvPr/>
        </p:nvGraphicFramePr>
        <p:xfrm>
          <a:off x="1692360" y="3284640"/>
          <a:ext cx="215892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4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284640"/>
                    <a:ext cx="2158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15"/>
          <p:cNvSpPr/>
          <p:nvPr/>
        </p:nvSpPr>
        <p:spPr>
          <a:xfrm>
            <a:off x="395280" y="765000"/>
            <a:ext cx="85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练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一批半径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球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为了提高球面的光洁度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要镀上一层铜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厚度定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1c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估计每只球需用铜多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铜的密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9g/cm 3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468360" y="2103480"/>
            <a:ext cx="8136000" cy="1512000"/>
            <a:chOff x="468360" y="2103480"/>
            <a:chExt cx="8136000" cy="1512000"/>
          </a:xfrm>
        </p:grpSpPr>
        <p:sp>
          <p:nvSpPr>
            <p:cNvPr id="488" name="Rectangle 16"/>
            <p:cNvSpPr/>
            <p:nvPr/>
          </p:nvSpPr>
          <p:spPr>
            <a:xfrm>
              <a:off x="468360" y="2205000"/>
              <a:ext cx="813600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解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球体体积为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c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 01c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镀层的体积为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9" name="Object 12"/>
            <p:cNvGraphicFramePr/>
            <p:nvPr/>
          </p:nvGraphicFramePr>
          <p:xfrm>
            <a:off x="5004000" y="2276640"/>
            <a:ext cx="420480" cy="4032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90" name="Object 1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04000" y="2276640"/>
                      <a:ext cx="42048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13"/>
            <p:cNvGraphicFramePr/>
            <p:nvPr/>
          </p:nvGraphicFramePr>
          <p:xfrm>
            <a:off x="1476360" y="2708280"/>
            <a:ext cx="506520" cy="3888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92" name="Object 13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476360" y="2708280"/>
                      <a:ext cx="50652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3" name="Object 14"/>
            <p:cNvGraphicFramePr/>
            <p:nvPr/>
          </p:nvGraphicFramePr>
          <p:xfrm>
            <a:off x="3337200" y="2103480"/>
            <a:ext cx="1379520" cy="8208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94" name="Object 14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337200" y="2103480"/>
                      <a:ext cx="137952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5" name="Rectangle 20"/>
          <p:cNvSpPr/>
          <p:nvPr/>
        </p:nvSpPr>
        <p:spPr>
          <a:xfrm>
            <a:off x="684360" y="4653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镀每只球需用的铜约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6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7"/>
          <p:cNvGrpSpPr/>
          <p:nvPr/>
        </p:nvGrpSpPr>
        <p:grpSpPr>
          <a:xfrm>
            <a:off x="1547640" y="3860640"/>
            <a:ext cx="6626160" cy="577800"/>
            <a:chOff x="1547640" y="3860640"/>
            <a:chExt cx="6626160" cy="577800"/>
          </a:xfrm>
        </p:grpSpPr>
        <p:sp>
          <p:nvSpPr>
            <p:cNvPr id="498" name="Rectangle 24"/>
            <p:cNvSpPr/>
            <p:nvPr/>
          </p:nvSpPr>
          <p:spPr>
            <a:xfrm>
              <a:off x="3047760" y="3860640"/>
              <a:ext cx="51260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1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13(cm3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9" name="Object 19"/>
            <p:cNvGraphicFramePr/>
            <p:nvPr/>
          </p:nvGraphicFramePr>
          <p:xfrm>
            <a:off x="1547640" y="3860640"/>
            <a:ext cx="1513440" cy="5047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00" name="Object 19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547640" y="3860640"/>
                      <a:ext cx="151344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圆角矩形 3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2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Box 6"/>
          <p:cNvSpPr/>
          <p:nvPr/>
        </p:nvSpPr>
        <p:spPr>
          <a:xfrm>
            <a:off x="826920" y="83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合函数的微分法则（一阶微分形式不变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8"/>
          <p:cNvGraphicFramePr/>
          <p:nvPr/>
        </p:nvGraphicFramePr>
        <p:xfrm>
          <a:off x="1258920" y="1557360"/>
          <a:ext cx="2968560" cy="46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58920" y="1557360"/>
                    <a:ext cx="29685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9"/>
          <p:cNvGraphicFramePr/>
          <p:nvPr/>
        </p:nvGraphicFramePr>
        <p:xfrm>
          <a:off x="4140360" y="1628640"/>
          <a:ext cx="3097080" cy="44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7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1628640"/>
                    <a:ext cx="309708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TextBox 9"/>
          <p:cNvSpPr/>
          <p:nvPr/>
        </p:nvSpPr>
        <p:spPr>
          <a:xfrm>
            <a:off x="650880" y="22384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微分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2124000" y="2276640"/>
          <a:ext cx="4248360" cy="473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2276640"/>
                    <a:ext cx="4248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 txBox="1"/>
          <p:nvPr/>
        </p:nvSpPr>
        <p:spPr>
          <a:xfrm>
            <a:off x="1402920" y="2852280"/>
            <a:ext cx="110196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由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2" name="Object 3"/>
          <p:cNvGraphicFramePr/>
          <p:nvPr/>
        </p:nvGraphicFramePr>
        <p:xfrm>
          <a:off x="2916360" y="2852640"/>
          <a:ext cx="1871640" cy="447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3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16360" y="2852640"/>
                    <a:ext cx="1871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6"/>
          <p:cNvGraphicFramePr/>
          <p:nvPr/>
        </p:nvGraphicFramePr>
        <p:xfrm>
          <a:off x="2502000" y="4024440"/>
          <a:ext cx="2286000" cy="538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2000" y="4024440"/>
                    <a:ext cx="22860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6" name="组合 50"/>
          <p:cNvGrpSpPr/>
          <p:nvPr/>
        </p:nvGrpSpPr>
        <p:grpSpPr>
          <a:xfrm>
            <a:off x="662040" y="3429000"/>
            <a:ext cx="7632720" cy="482760"/>
            <a:chOff x="662040" y="3429000"/>
            <a:chExt cx="7632720" cy="482760"/>
          </a:xfrm>
        </p:grpSpPr>
        <p:sp>
          <p:nvSpPr>
            <p:cNvPr id="537" name="TextBox 3"/>
            <p:cNvSpPr/>
            <p:nvPr/>
          </p:nvSpPr>
          <p:spPr>
            <a:xfrm>
              <a:off x="662040" y="3429720"/>
              <a:ext cx="76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所以复合函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微分公式也可写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8" name="Object 18"/>
            <p:cNvGraphicFramePr/>
            <p:nvPr/>
          </p:nvGraphicFramePr>
          <p:xfrm>
            <a:off x="2699280" y="3429000"/>
            <a:ext cx="1872000" cy="4827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39" name="Object 18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699280" y="3429000"/>
                      <a:ext cx="187200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0" name="组合 45"/>
          <p:cNvGrpSpPr/>
          <p:nvPr/>
        </p:nvGrpSpPr>
        <p:grpSpPr>
          <a:xfrm>
            <a:off x="826920" y="4724280"/>
            <a:ext cx="7921800" cy="859680"/>
            <a:chOff x="826920" y="4724280"/>
            <a:chExt cx="7921800" cy="859680"/>
          </a:xfrm>
        </p:grpSpPr>
        <p:sp>
          <p:nvSpPr>
            <p:cNvPr id="541" name="TextBox 6"/>
            <p:cNvSpPr/>
            <p:nvPr/>
          </p:nvSpPr>
          <p:spPr>
            <a:xfrm>
              <a:off x="826920" y="4724280"/>
              <a:ext cx="792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可见，不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自变量，还是中间变量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微分总可写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形式，这种性质称为一阶微分形式不变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2" name="Object 9"/>
            <p:cNvGraphicFramePr/>
            <p:nvPr/>
          </p:nvGraphicFramePr>
          <p:xfrm>
            <a:off x="6227640" y="4796280"/>
            <a:ext cx="1296000" cy="367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43" name="Object 9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227640" y="4796280"/>
                      <a:ext cx="1296000" cy="3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4" name="Object 10"/>
            <p:cNvGraphicFramePr/>
            <p:nvPr/>
          </p:nvGraphicFramePr>
          <p:xfrm>
            <a:off x="1834920" y="5156640"/>
            <a:ext cx="1152360" cy="4273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545" name="Object 10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834920" y="5156640"/>
                      <a:ext cx="115236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6" name="直接连接符 82"/>
          <p:cNvSpPr/>
          <p:nvPr/>
        </p:nvSpPr>
        <p:spPr>
          <a:xfrm>
            <a:off x="5292720" y="2781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3"/>
          <p:cNvGraphicFramePr/>
          <p:nvPr/>
        </p:nvGraphicFramePr>
        <p:xfrm>
          <a:off x="6156360" y="2781360"/>
          <a:ext cx="642960" cy="392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48" name="Object 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156360" y="2781360"/>
                    <a:ext cx="642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3"/>
          <p:cNvGraphicFramePr/>
          <p:nvPr/>
        </p:nvGraphicFramePr>
        <p:xfrm>
          <a:off x="5219640" y="2781360"/>
          <a:ext cx="924120" cy="447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50" name="Object 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219640" y="2781360"/>
                    <a:ext cx="92412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圆角矩形 3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5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5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5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6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7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Box 16"/>
          <p:cNvSpPr/>
          <p:nvPr/>
        </p:nvSpPr>
        <p:spPr>
          <a:xfrm>
            <a:off x="900000" y="2205000"/>
            <a:ext cx="14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Object 18"/>
          <p:cNvGraphicFramePr/>
          <p:nvPr/>
        </p:nvGraphicFramePr>
        <p:xfrm>
          <a:off x="2627280" y="2276640"/>
          <a:ext cx="335124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5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27280" y="2276640"/>
                    <a:ext cx="33512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TextBox 23"/>
          <p:cNvSpPr/>
          <p:nvPr/>
        </p:nvSpPr>
        <p:spPr>
          <a:xfrm>
            <a:off x="844560" y="147312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（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50"/>
          <p:cNvGrpSpPr/>
          <p:nvPr/>
        </p:nvGrpSpPr>
        <p:grpSpPr>
          <a:xfrm>
            <a:off x="971640" y="907920"/>
            <a:ext cx="6985080" cy="522360"/>
            <a:chOff x="971640" y="907920"/>
            <a:chExt cx="6985080" cy="522360"/>
          </a:xfrm>
        </p:grpSpPr>
        <p:sp>
          <p:nvSpPr>
            <p:cNvPr id="578" name="TextBox 10"/>
            <p:cNvSpPr/>
            <p:nvPr/>
          </p:nvSpPr>
          <p:spPr>
            <a:xfrm>
              <a:off x="971640" y="90792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例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9" name="Object 12"/>
            <p:cNvGraphicFramePr/>
            <p:nvPr/>
          </p:nvGraphicFramePr>
          <p:xfrm>
            <a:off x="2411640" y="979920"/>
            <a:ext cx="1944000" cy="404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80" name="Object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411640" y="979920"/>
                      <a:ext cx="1944000" cy="4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1" name="Object 13"/>
            <p:cNvGraphicFramePr/>
            <p:nvPr/>
          </p:nvGraphicFramePr>
          <p:xfrm>
            <a:off x="5004000" y="907920"/>
            <a:ext cx="523800" cy="522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82" name="Object 1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004000" y="907920"/>
                      <a:ext cx="52380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3" name="组合 51"/>
          <p:cNvGrpSpPr/>
          <p:nvPr/>
        </p:nvGrpSpPr>
        <p:grpSpPr>
          <a:xfrm>
            <a:off x="1019160" y="1413000"/>
            <a:ext cx="6559560" cy="829080"/>
            <a:chOff x="1019160" y="1413000"/>
            <a:chExt cx="6559560" cy="829080"/>
          </a:xfrm>
        </p:grpSpPr>
        <p:sp>
          <p:nvSpPr>
            <p:cNvPr id="584" name="TextBox 13"/>
            <p:cNvSpPr/>
            <p:nvPr/>
          </p:nvSpPr>
          <p:spPr>
            <a:xfrm>
              <a:off x="1019160" y="1416600"/>
              <a:ext cx="655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先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5" name="Object 15"/>
            <p:cNvGraphicFramePr/>
            <p:nvPr/>
          </p:nvGraphicFramePr>
          <p:xfrm>
            <a:off x="3419640" y="1413000"/>
            <a:ext cx="2298600" cy="4780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86" name="Object 1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419640" y="1413000"/>
                      <a:ext cx="2298600" cy="4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7" name="TextBox 13"/>
          <p:cNvSpPr/>
          <p:nvPr/>
        </p:nvSpPr>
        <p:spPr>
          <a:xfrm>
            <a:off x="2556000" y="3068640"/>
            <a:ext cx="46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微分形式的不变性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3"/>
          <p:cNvSpPr/>
          <p:nvPr/>
        </p:nvSpPr>
        <p:spPr>
          <a:xfrm>
            <a:off x="1403280" y="306864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4"/>
          <p:cNvGraphicFramePr/>
          <p:nvPr/>
        </p:nvGraphicFramePr>
        <p:xfrm>
          <a:off x="1290600" y="3649680"/>
          <a:ext cx="5945400" cy="431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0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90600" y="3649680"/>
                    <a:ext cx="5945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5"/>
          <p:cNvGraphicFramePr/>
          <p:nvPr/>
        </p:nvGraphicFramePr>
        <p:xfrm>
          <a:off x="4211640" y="4221000"/>
          <a:ext cx="2806560" cy="478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11640" y="4221000"/>
                    <a:ext cx="28065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9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0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0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1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50"/>
          <p:cNvGrpSpPr/>
          <p:nvPr/>
        </p:nvGrpSpPr>
        <p:grpSpPr>
          <a:xfrm>
            <a:off x="971640" y="907920"/>
            <a:ext cx="6985080" cy="527040"/>
            <a:chOff x="971640" y="907920"/>
            <a:chExt cx="6985080" cy="527040"/>
          </a:xfrm>
        </p:grpSpPr>
        <p:sp>
          <p:nvSpPr>
            <p:cNvPr id="616" name="TextBox 10"/>
            <p:cNvSpPr/>
            <p:nvPr/>
          </p:nvSpPr>
          <p:spPr>
            <a:xfrm>
              <a:off x="971640" y="90792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例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17" name="Object 3"/>
            <p:cNvGraphicFramePr/>
            <p:nvPr/>
          </p:nvGraphicFramePr>
          <p:xfrm>
            <a:off x="2473200" y="930960"/>
            <a:ext cx="1819080" cy="504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18" name="Object 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473200" y="930960"/>
                      <a:ext cx="1819080" cy="50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Object 13"/>
            <p:cNvGraphicFramePr/>
            <p:nvPr/>
          </p:nvGraphicFramePr>
          <p:xfrm>
            <a:off x="5004000" y="907920"/>
            <a:ext cx="523800" cy="523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20" name="Object 1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004000" y="907920"/>
                      <a:ext cx="523800" cy="52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1" name="TextBox 13"/>
          <p:cNvSpPr/>
          <p:nvPr/>
        </p:nvSpPr>
        <p:spPr>
          <a:xfrm>
            <a:off x="1476360" y="191628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 利用微分形式的不变性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Object 8"/>
          <p:cNvGraphicFramePr/>
          <p:nvPr/>
        </p:nvGraphicFramePr>
        <p:xfrm>
          <a:off x="1646280" y="2835360"/>
          <a:ext cx="3301920" cy="59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46280" y="2835360"/>
                    <a:ext cx="3301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9"/>
          <p:cNvGraphicFramePr/>
          <p:nvPr/>
        </p:nvGraphicFramePr>
        <p:xfrm>
          <a:off x="1717560" y="3565440"/>
          <a:ext cx="1403640" cy="107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5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17560" y="3565440"/>
                    <a:ext cx="140364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10"/>
          <p:cNvGraphicFramePr/>
          <p:nvPr/>
        </p:nvGraphicFramePr>
        <p:xfrm>
          <a:off x="3913200" y="3578400"/>
          <a:ext cx="1790640" cy="1074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27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13200" y="3578400"/>
                    <a:ext cx="179064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8"/>
          <p:cNvGraphicFramePr/>
          <p:nvPr/>
        </p:nvGraphicFramePr>
        <p:xfrm>
          <a:off x="4932360" y="2708280"/>
          <a:ext cx="1074600" cy="984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9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932360" y="2708280"/>
                    <a:ext cx="10746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8"/>
          <p:cNvGraphicFramePr/>
          <p:nvPr/>
        </p:nvGraphicFramePr>
        <p:xfrm>
          <a:off x="6075360" y="2851200"/>
          <a:ext cx="1492200" cy="596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31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75360" y="2851200"/>
                    <a:ext cx="1492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9"/>
          <p:cNvGraphicFramePr/>
          <p:nvPr/>
        </p:nvGraphicFramePr>
        <p:xfrm>
          <a:off x="3003480" y="3851280"/>
          <a:ext cx="925560" cy="538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33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003480" y="3851280"/>
                    <a:ext cx="925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3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4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5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5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2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658" name="Picture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50"/>
          <p:cNvGrpSpPr/>
          <p:nvPr/>
        </p:nvGrpSpPr>
        <p:grpSpPr>
          <a:xfrm>
            <a:off x="971640" y="860400"/>
            <a:ext cx="6985080" cy="912960"/>
            <a:chOff x="971640" y="860400"/>
            <a:chExt cx="6985080" cy="912960"/>
          </a:xfrm>
        </p:grpSpPr>
        <p:sp>
          <p:nvSpPr>
            <p:cNvPr id="665" name="TextBox 10"/>
            <p:cNvSpPr/>
            <p:nvPr/>
          </p:nvSpPr>
          <p:spPr>
            <a:xfrm>
              <a:off x="971640" y="90792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练习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利用一阶微分形式不变性求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微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6" name="Object 3"/>
            <p:cNvGraphicFramePr/>
            <p:nvPr/>
          </p:nvGraphicFramePr>
          <p:xfrm>
            <a:off x="5842080" y="860400"/>
            <a:ext cx="1869840" cy="454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67" name="Object 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842080" y="860400"/>
                      <a:ext cx="1869840" cy="4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8" name="Object 13"/>
            <p:cNvGraphicFramePr/>
            <p:nvPr/>
          </p:nvGraphicFramePr>
          <p:xfrm>
            <a:off x="2051640" y="1341000"/>
            <a:ext cx="432720" cy="432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69" name="Object 1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051640" y="1341000"/>
                      <a:ext cx="432720" cy="43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0" name="Object 3"/>
          <p:cNvGraphicFramePr/>
          <p:nvPr/>
        </p:nvGraphicFramePr>
        <p:xfrm>
          <a:off x="1692360" y="1916280"/>
          <a:ext cx="3139920" cy="576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71" name="Object 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92360" y="1916280"/>
                    <a:ext cx="3139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3"/>
          <p:cNvGraphicFramePr/>
          <p:nvPr/>
        </p:nvGraphicFramePr>
        <p:xfrm>
          <a:off x="900000" y="1844640"/>
          <a:ext cx="608040" cy="511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3" name="Object 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00000" y="1844640"/>
                    <a:ext cx="6080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3"/>
          <p:cNvGraphicFramePr/>
          <p:nvPr/>
        </p:nvGraphicFramePr>
        <p:xfrm>
          <a:off x="2195640" y="2637000"/>
          <a:ext cx="1985760" cy="510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75" name="Object 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195640" y="2637000"/>
                    <a:ext cx="198576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3"/>
          <p:cNvGraphicFramePr/>
          <p:nvPr/>
        </p:nvGraphicFramePr>
        <p:xfrm>
          <a:off x="4067280" y="2637000"/>
          <a:ext cx="1827000" cy="510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067280" y="2637000"/>
                    <a:ext cx="182700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3"/>
          <p:cNvGraphicFramePr/>
          <p:nvPr/>
        </p:nvGraphicFramePr>
        <p:xfrm>
          <a:off x="1979640" y="3068640"/>
          <a:ext cx="2914560" cy="988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79" name="Object 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79640" y="3068640"/>
                    <a:ext cx="29145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3"/>
          <p:cNvGraphicFramePr/>
          <p:nvPr/>
        </p:nvGraphicFramePr>
        <p:xfrm>
          <a:off x="5076720" y="3284640"/>
          <a:ext cx="1314720" cy="5112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076720" y="3284640"/>
                    <a:ext cx="1314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3"/>
          <p:cNvGraphicFramePr/>
          <p:nvPr/>
        </p:nvGraphicFramePr>
        <p:xfrm>
          <a:off x="1979640" y="3933720"/>
          <a:ext cx="3524400" cy="9892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83" name="Object 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979640" y="3933720"/>
                    <a:ext cx="35244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"/>
          <p:cNvGraphicFramePr/>
          <p:nvPr/>
        </p:nvGraphicFramePr>
        <p:xfrm>
          <a:off x="5580000" y="4221000"/>
          <a:ext cx="480960" cy="4464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85" name="Object 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580000" y="4221000"/>
                    <a:ext cx="48096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3"/>
          <p:cNvGraphicFramePr/>
          <p:nvPr/>
        </p:nvGraphicFramePr>
        <p:xfrm>
          <a:off x="1843200" y="4869000"/>
          <a:ext cx="2466720" cy="9889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87" name="Object 3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1843200" y="4869000"/>
                    <a:ext cx="24667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50"/>
          <p:cNvSpPr/>
          <p:nvPr/>
        </p:nvSpPr>
        <p:spPr>
          <a:xfrm>
            <a:off x="1943280" y="2951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微分的概念及计算，由参数方程确定的函数的导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51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0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70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971640" y="1989000"/>
          <a:ext cx="7043760" cy="159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989000"/>
                    <a:ext cx="704376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6" name="Object 4"/>
          <p:cNvGraphicFramePr/>
          <p:nvPr/>
        </p:nvGraphicFramePr>
        <p:xfrm>
          <a:off x="900000" y="692280"/>
          <a:ext cx="7559640" cy="2681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692280"/>
                    <a:ext cx="75596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1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" name="Object 62"/>
          <p:cNvGraphicFramePr/>
          <p:nvPr/>
        </p:nvGraphicFramePr>
        <p:xfrm>
          <a:off x="357120" y="2583000"/>
          <a:ext cx="7920000" cy="4275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8" name="Object 6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7120" y="2583000"/>
                    <a:ext cx="79200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组合 19"/>
          <p:cNvGrpSpPr/>
          <p:nvPr/>
        </p:nvGrpSpPr>
        <p:grpSpPr>
          <a:xfrm>
            <a:off x="6156360" y="4076640"/>
            <a:ext cx="1906920" cy="714600"/>
            <a:chOff x="6156360" y="4076640"/>
            <a:chExt cx="1906920" cy="714600"/>
          </a:xfrm>
        </p:grpSpPr>
        <p:pic>
          <p:nvPicPr>
            <p:cNvPr id="100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6156360" y="40766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22"/>
            <p:cNvSpPr/>
            <p:nvPr/>
          </p:nvSpPr>
          <p:spPr>
            <a:xfrm>
              <a:off x="7029000" y="414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" name="Object 31"/>
          <p:cNvGraphicFramePr/>
          <p:nvPr/>
        </p:nvGraphicFramePr>
        <p:xfrm>
          <a:off x="4859280" y="4869000"/>
          <a:ext cx="3195720" cy="115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9280" y="4869000"/>
                    <a:ext cx="3195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4"/>
          <p:cNvGraphicFramePr/>
          <p:nvPr/>
        </p:nvGraphicFramePr>
        <p:xfrm>
          <a:off x="1116000" y="1197000"/>
          <a:ext cx="7056360" cy="1720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197000"/>
                    <a:ext cx="70563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2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27"/>
          <p:cNvGraphicFramePr/>
          <p:nvPr/>
        </p:nvGraphicFramePr>
        <p:xfrm>
          <a:off x="2916360" y="2852640"/>
          <a:ext cx="267336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6360" y="2852640"/>
                    <a:ext cx="2673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971640" y="3500280"/>
          <a:ext cx="7464240" cy="21607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71640" y="3500280"/>
                    <a:ext cx="746424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0"/>
          <p:cNvGraphicFramePr/>
          <p:nvPr/>
        </p:nvGraphicFramePr>
        <p:xfrm>
          <a:off x="1397160" y="5445000"/>
          <a:ext cx="6703920" cy="47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4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97160" y="5445000"/>
                    <a:ext cx="6703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Object 4"/>
          <p:cNvGraphicFramePr/>
          <p:nvPr/>
        </p:nvGraphicFramePr>
        <p:xfrm>
          <a:off x="826920" y="1052640"/>
          <a:ext cx="7475760" cy="142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052640"/>
                    <a:ext cx="74757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0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9" name="Object 31"/>
          <p:cNvGraphicFramePr/>
          <p:nvPr/>
        </p:nvGraphicFramePr>
        <p:xfrm>
          <a:off x="611280" y="1989000"/>
          <a:ext cx="3698640" cy="874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0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989000"/>
                    <a:ext cx="36986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28"/>
          <p:cNvGraphicFramePr/>
          <p:nvPr/>
        </p:nvGraphicFramePr>
        <p:xfrm>
          <a:off x="2124000" y="1989000"/>
          <a:ext cx="3168720" cy="551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3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1989000"/>
                    <a:ext cx="316872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30"/>
          <p:cNvGraphicFramePr/>
          <p:nvPr/>
        </p:nvGraphicFramePr>
        <p:xfrm>
          <a:off x="1116000" y="3141720"/>
          <a:ext cx="4176720" cy="86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6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16000" y="3141720"/>
                    <a:ext cx="41767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2"/>
          <p:cNvGraphicFramePr/>
          <p:nvPr/>
        </p:nvGraphicFramePr>
        <p:xfrm>
          <a:off x="4859280" y="4221000"/>
          <a:ext cx="332892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8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59280" y="4221000"/>
                    <a:ext cx="3328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3"/>
          <p:cNvGraphicFramePr/>
          <p:nvPr/>
        </p:nvGraphicFramePr>
        <p:xfrm>
          <a:off x="468360" y="5084640"/>
          <a:ext cx="7988400" cy="576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0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360" y="5084640"/>
                    <a:ext cx="7988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34"/>
          <p:cNvGraphicFramePr/>
          <p:nvPr/>
        </p:nvGraphicFramePr>
        <p:xfrm>
          <a:off x="2627280" y="2492280"/>
          <a:ext cx="5183280" cy="64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2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627280" y="2492280"/>
                    <a:ext cx="5183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35"/>
          <p:cNvGraphicFramePr/>
          <p:nvPr/>
        </p:nvGraphicFramePr>
        <p:xfrm>
          <a:off x="5219640" y="3141720"/>
          <a:ext cx="2262240" cy="793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4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19640" y="3141720"/>
                    <a:ext cx="22622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圆角矩形 2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8" name="Object 2"/>
          <p:cNvGraphicFramePr/>
          <p:nvPr/>
        </p:nvGraphicFramePr>
        <p:xfrm>
          <a:off x="690480" y="690480"/>
          <a:ext cx="7796160" cy="1474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0480" y="690480"/>
                    <a:ext cx="779616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0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9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Object 29"/>
          <p:cNvGraphicFramePr/>
          <p:nvPr/>
        </p:nvGraphicFramePr>
        <p:xfrm>
          <a:off x="755640" y="1916280"/>
          <a:ext cx="7288200" cy="801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0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1916280"/>
                    <a:ext cx="7288200" cy="80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0"/>
          <p:cNvGraphicFramePr/>
          <p:nvPr/>
        </p:nvGraphicFramePr>
        <p:xfrm>
          <a:off x="609480" y="5165640"/>
          <a:ext cx="7988400" cy="12351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2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5165640"/>
                    <a:ext cx="79884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9"/>
          <p:cNvGraphicFramePr/>
          <p:nvPr/>
        </p:nvGraphicFramePr>
        <p:xfrm>
          <a:off x="900000" y="2421000"/>
          <a:ext cx="7218360" cy="7207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04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2421000"/>
                    <a:ext cx="7218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29"/>
          <p:cNvGraphicFramePr/>
          <p:nvPr/>
        </p:nvGraphicFramePr>
        <p:xfrm>
          <a:off x="826920" y="3500280"/>
          <a:ext cx="7315200" cy="20131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06" name="Object 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6920" y="3500280"/>
                    <a:ext cx="7315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直接连接符 50"/>
          <p:cNvSpPr/>
          <p:nvPr/>
        </p:nvSpPr>
        <p:spPr>
          <a:xfrm>
            <a:off x="3851280" y="285264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51"/>
          <p:cNvSpPr/>
          <p:nvPr/>
        </p:nvSpPr>
        <p:spPr>
          <a:xfrm>
            <a:off x="6804000" y="28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8"/>
          <p:cNvGraphicFramePr/>
          <p:nvPr/>
        </p:nvGraphicFramePr>
        <p:xfrm>
          <a:off x="1908000" y="2997360"/>
          <a:ext cx="5688360" cy="412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08000" y="2997360"/>
                    <a:ext cx="5688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8"/>
          <p:cNvGraphicFramePr/>
          <p:nvPr/>
        </p:nvGraphicFramePr>
        <p:xfrm>
          <a:off x="5508720" y="1341360"/>
          <a:ext cx="422280" cy="412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08720" y="1341360"/>
                    <a:ext cx="422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8"/>
          <p:cNvGraphicFramePr/>
          <p:nvPr/>
        </p:nvGraphicFramePr>
        <p:xfrm>
          <a:off x="6084720" y="3933720"/>
          <a:ext cx="422280" cy="412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4720" y="3933720"/>
                    <a:ext cx="422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圆角矩形 3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0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3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7" name="Object 26"/>
          <p:cNvGraphicFramePr/>
          <p:nvPr/>
        </p:nvGraphicFramePr>
        <p:xfrm>
          <a:off x="900000" y="1125360"/>
          <a:ext cx="4092840" cy="501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8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125360"/>
                    <a:ext cx="409284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27"/>
          <p:cNvGraphicFramePr/>
          <p:nvPr/>
        </p:nvGraphicFramePr>
        <p:xfrm>
          <a:off x="5148360" y="1125360"/>
          <a:ext cx="3468600" cy="47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48360" y="1125360"/>
                    <a:ext cx="3468600" cy="4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Group 10"/>
          <p:cNvGrpSpPr/>
          <p:nvPr/>
        </p:nvGrpSpPr>
        <p:grpSpPr>
          <a:xfrm>
            <a:off x="1334880" y="2133720"/>
            <a:ext cx="4059360" cy="682200"/>
            <a:chOff x="1334880" y="2133720"/>
            <a:chExt cx="4059360" cy="682200"/>
          </a:xfrm>
        </p:grpSpPr>
        <p:sp>
          <p:nvSpPr>
            <p:cNvPr id="242" name="Rectangle 29"/>
            <p:cNvSpPr/>
            <p:nvPr/>
          </p:nvSpPr>
          <p:spPr>
            <a:xfrm>
              <a:off x="1334880" y="2133720"/>
              <a:ext cx="405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函数                  的微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3" name="Object 12"/>
            <p:cNvGraphicFramePr/>
            <p:nvPr/>
          </p:nvGraphicFramePr>
          <p:xfrm>
            <a:off x="2987640" y="2276640"/>
            <a:ext cx="1368360" cy="539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44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987640" y="2276640"/>
                      <a:ext cx="136836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5" name="Group 25"/>
          <p:cNvGrpSpPr/>
          <p:nvPr/>
        </p:nvGrpSpPr>
        <p:grpSpPr>
          <a:xfrm>
            <a:off x="1111680" y="3068640"/>
            <a:ext cx="4579560" cy="542880"/>
            <a:chOff x="1111680" y="3068640"/>
            <a:chExt cx="4579560" cy="542880"/>
          </a:xfrm>
        </p:grpSpPr>
        <p:graphicFrame>
          <p:nvGraphicFramePr>
            <p:cNvPr id="246" name="Object 26"/>
            <p:cNvGraphicFramePr/>
            <p:nvPr/>
          </p:nvGraphicFramePr>
          <p:xfrm>
            <a:off x="3187800" y="3068640"/>
            <a:ext cx="2503440" cy="542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47" name="Object 2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187800" y="3068640"/>
                      <a:ext cx="25034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Rectangle 31"/>
            <p:cNvSpPr/>
            <p:nvPr/>
          </p:nvSpPr>
          <p:spPr>
            <a:xfrm>
              <a:off x="1111680" y="3109680"/>
              <a:ext cx="157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1187280" y="3933720"/>
            <a:ext cx="4459320" cy="517680"/>
            <a:chOff x="1187280" y="3933720"/>
            <a:chExt cx="4459320" cy="517680"/>
          </a:xfrm>
        </p:grpSpPr>
        <p:graphicFrame>
          <p:nvGraphicFramePr>
            <p:cNvPr id="250" name="Object 29"/>
            <p:cNvGraphicFramePr/>
            <p:nvPr/>
          </p:nvGraphicFramePr>
          <p:xfrm>
            <a:off x="2468520" y="3933720"/>
            <a:ext cx="3178080" cy="5176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51" name="Object 29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468520" y="3933720"/>
                      <a:ext cx="3178080" cy="51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2" name="Rectangle 33"/>
            <p:cNvSpPr/>
            <p:nvPr/>
          </p:nvSpPr>
          <p:spPr>
            <a:xfrm>
              <a:off x="1187280" y="397836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Object 2"/>
          <p:cNvGraphicFramePr/>
          <p:nvPr/>
        </p:nvGraphicFramePr>
        <p:xfrm>
          <a:off x="468360" y="3068640"/>
          <a:ext cx="7154640" cy="147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3068640"/>
                    <a:ext cx="71546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0"/>
          <p:cNvGraphicFramePr/>
          <p:nvPr/>
        </p:nvGraphicFramePr>
        <p:xfrm>
          <a:off x="841320" y="4437000"/>
          <a:ext cx="7419960" cy="1530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7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1320" y="4437000"/>
                    <a:ext cx="741996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35"/>
          <p:cNvGraphicFramePr/>
          <p:nvPr/>
        </p:nvGraphicFramePr>
        <p:xfrm>
          <a:off x="5003640" y="4581360"/>
          <a:ext cx="1297080" cy="96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03640" y="4581360"/>
                    <a:ext cx="12970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1"/>
          <p:cNvGraphicFramePr/>
          <p:nvPr/>
        </p:nvGraphicFramePr>
        <p:xfrm>
          <a:off x="1042920" y="1052640"/>
          <a:ext cx="6794640" cy="22320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8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1052640"/>
                    <a:ext cx="6794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0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5" name="Object 2"/>
          <p:cNvGraphicFramePr/>
          <p:nvPr/>
        </p:nvGraphicFramePr>
        <p:xfrm>
          <a:off x="755640" y="765000"/>
          <a:ext cx="934920" cy="51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765000"/>
                    <a:ext cx="9349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2"/>
          <p:cNvGraphicFramePr/>
          <p:nvPr/>
        </p:nvGraphicFramePr>
        <p:xfrm>
          <a:off x="826920" y="765000"/>
          <a:ext cx="7550280" cy="2449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765000"/>
                    <a:ext cx="755028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12"/>
          <p:cNvGraphicFramePr/>
          <p:nvPr/>
        </p:nvGraphicFramePr>
        <p:xfrm>
          <a:off x="914400" y="2708280"/>
          <a:ext cx="342756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1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" y="2708280"/>
                    <a:ext cx="342756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4"/>
          <p:cNvGraphicFramePr/>
          <p:nvPr/>
        </p:nvGraphicFramePr>
        <p:xfrm>
          <a:off x="4427640" y="2708280"/>
          <a:ext cx="1647720" cy="1731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3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27640" y="2708280"/>
                    <a:ext cx="1647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5"/>
          <p:cNvGraphicFramePr/>
          <p:nvPr/>
        </p:nvGraphicFramePr>
        <p:xfrm>
          <a:off x="6156360" y="2997360"/>
          <a:ext cx="1260360" cy="1012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5" name="Object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56360" y="2997360"/>
                    <a:ext cx="126036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0:39Z</dcterms:modified>
  <cp:revision>80</cp:revision>
  <dc:subject/>
  <dc:title>幻灯片 1</dc:title>
</cp:coreProperties>
</file>